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8A39-6419-47FD-915D-20234D10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B08A-D2B7-4122-B37F-549C8EE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B243-DBD3-4C7D-B414-3350C91E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0305-3EE9-4D9B-AE6D-BF42EE2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71E-6165-4251-95AB-7450394D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5E6-B5EA-4D58-9889-2091402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8EA-4239-442D-A230-AEDBC25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ACEA-0162-4DB2-B5E3-843D484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9F60-301A-4ED8-83E6-799A26F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9899-BC4E-4F4F-945B-5E89C2E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EA1-39E8-44EA-A90A-9408C53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F510-1C74-4ABE-ADC3-D5359E0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F84-B0BF-4CE1-85D1-AAAC707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1D76-6031-4EA9-80D0-3ACCF37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311F-9CDC-4F2B-AD2F-1ACBAB3A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0405-20B0-430A-B03D-735583A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48A-D76F-4E1E-8C4B-B434F8E9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1768-2619-433F-B0D4-71D6BD63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8047-C02D-49E5-A248-FF4B563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865B-6696-4E19-8637-D5FDE73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CD6E-88F0-4A71-B707-EA111A6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FB36-6253-4F65-AFA0-514A68F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920F-C29A-4F8F-8604-35A26179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5138-D0EE-4003-BA48-A095C3B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194-4658-4FBF-99EB-971E43FB9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15A-1F4B-477D-B23D-BC72DB5CC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en-US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en-US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Garamond"/>
                <a:ea typeface="Arial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4000"/>
            </a:br>
            <a:r>
              <a:rPr b="1" lang="en-US" sz="40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Garamond"/>
                          <a:ea typeface="Arial"/>
                        </a:rPr>
                        <a:t>                        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Garamond"/>
                          <a:ea typeface="Arial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8760" y="1844640"/>
          <a:ext cx="5000400" cy="4815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24480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en-US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en-US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en-US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en-US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Андрей</cp:lastModifiedBy>
  <dcterms:modified xsi:type="dcterms:W3CDTF">2010-05-27T23:56:11Z</dcterms:modified>
  <cp:revision>10</cp:revision>
  <dc:subject/>
  <dc:title>Зачем нужны дроби?</dc:title>
</cp:coreProperties>
</file>